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184-CEB7-426B-838D-76558BE6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085-752F-4509-9878-93227DFF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FEC-71F1-4780-A1EF-F71A02E3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539-802A-428A-BD76-4E868284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E1B-4951-4A08-91E4-B57D4D98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412-7BFC-4489-9F34-B6D3407C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72B-D4F6-46DA-B807-B8E9C80E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4E0-7BE3-4603-BEB2-2AF2AED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92D-B9E8-49CC-8929-61F66D39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9B8-E9DB-4A43-BB0F-03DD9922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884-F1C3-4D35-8FE9-0FAE07A9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F22-FA10-4525-9D6F-A1A89E7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B99-271A-46B0-BE90-50CB338549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lving System of Equations with 3 Variables by Elim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62120" y="33526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– 2y + 3z =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x – y – 2z 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x + 2y – z =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lve by Elim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42840" y="12952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– 2y + 3z =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x – y – 2z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x + 2y – z =  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tent Placeholder 2"/>
          <p:cNvSpPr/>
          <p:nvPr/>
        </p:nvSpPr>
        <p:spPr>
          <a:xfrm>
            <a:off x="304920" y="2362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-2( x – 2y + 3z = 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5867280" y="2362320"/>
            <a:ext cx="2667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-(2x – y – 2z = 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09480" y="27432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-2x + 4y – 6z = -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6324480" y="27432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-2x + y + 2z = -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57200" y="30481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x –   y – 2z = 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6248520" y="3048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2x + 2y – z =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>
            <a:off x="457200" y="3429000"/>
            <a:ext cx="23623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1219320" y="35053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3y – 8z = -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traight Connector 16"/>
          <p:cNvSpPr/>
          <p:nvPr/>
        </p:nvSpPr>
        <p:spPr>
          <a:xfrm>
            <a:off x="6248520" y="3429000"/>
            <a:ext cx="236196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3657600" y="4267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  3y + z =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3581280" y="365760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-(3y – 8z = -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7086600" y="35053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3y + z =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365760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-3y + 8z = 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traight Connector 22"/>
          <p:cNvSpPr/>
          <p:nvPr/>
        </p:nvSpPr>
        <p:spPr>
          <a:xfrm>
            <a:off x="3276720" y="4648320"/>
            <a:ext cx="236196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4191120" y="4724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9z = 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343400" y="5105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z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09480" y="44956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030a0"/>
                </a:solidFill>
                <a:latin typeface="Arial"/>
              </a:rPr>
              <a:t>3y – 8(</a:t>
            </a: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7030a0"/>
                </a:solidFill>
                <a:latin typeface="Arial"/>
              </a:rPr>
              <a:t>) = -1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1295280" y="487692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3y = 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144792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y =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6248520" y="4495680"/>
            <a:ext cx="259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x – 2(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 + 3(</a:t>
            </a:r>
            <a:r>
              <a:rPr b="1" lang="en-US" sz="2200" spc="-1" strike="noStrike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 = 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6553080" y="487692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x – (-2) + 6 = 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7238880" y="525780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x + 8 = 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7467480" y="5562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x  =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7010280" y="53352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(4, -1, 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25:10Z</dcterms:created>
  <dc:creator>Sys Admin</dc:creator>
  <dc:description/>
  <dc:language>en-US</dc:language>
  <cp:lastModifiedBy>Admin</cp:lastModifiedBy>
  <dcterms:modified xsi:type="dcterms:W3CDTF">2011-11-02T22:59:44Z</dcterms:modified>
  <cp:revision>24</cp:revision>
  <dc:subject/>
  <dc:title>Solving System of Equations with 3 Variables</dc:title>
</cp:coreProperties>
</file>